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0EE9-4B04-4B83-8209-294985DAD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7869-DF35-480E-B663-8C6C36346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82D-1CD2-4B7A-BF3C-CDB957076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80DC-A545-4E33-A12A-3440BDF87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C250-B4BE-401F-9682-FDAD315D3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68CB-D021-4A2E-958F-C59F02F7A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7663-A5CE-40D2-84FF-E54E78F35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358F-DDD1-4FD5-9A42-2146FD939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D016-85B0-47AC-8D56-CFE2ECB07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835A-A024-43F1-AD43-26D25FCC3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2E9E-99D9-497F-BD54-2BD181B73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799B-8068-4A4D-BD98-348F37C9F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5C70-7730-41C3-911D-CEA9455F3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184F-12A8-4383-9D92-78DD3CBD3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DBC5-DD23-4EFA-9BF1-283EC715B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1117-423D-434D-98E1-37CEA3E03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3F53-4F40-4A46-A787-0122D186B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8C31-41D7-448F-A5BD-9DF33CF64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792B-1FAD-48DE-B99F-240E37ECA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D4A9-84B7-4EC7-8EBC-77D0571F2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FEE8-F031-4280-A1E2-AE55A0DCE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C1E0-0468-4326-8B99-D2A7F9A35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1BB-AE9B-4B14-A414-282BCB539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B770-2F24-46B7-A083-31AB4E475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D7DB-0AF7-4C95-A35B-A4A121A79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105D-7E89-401B-9809-D8F627FB7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589F-78A9-4558-BDF2-9EDC0F5A5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6F19-A408-410F-81C4-590B01AE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25DB-DB09-44C8-9904-8120AE702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287D-BD26-4A99-AEB8-51C7BC44B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1152-3973-46F8-B749-7AF97B9D5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54A-3594-4508-A0C4-3893DC92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3C4-8200-4A12-87D7-DB30D869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0A8E-4BF2-4CD6-B725-48F9FDD2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7A1-FD36-4EB9-9BA8-A9B47CD5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0D94-B001-48D6-968A-9D50E7EC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314A-BAF5-4DDB-A6EF-FDA81670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97AE-5CF7-4BB5-B306-89114303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827A-3C4B-4367-9254-8D747D72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803A-D172-402F-8FE1-A63448B7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C860-1854-4D54-AA72-96EC05AE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3D68-9746-43AB-B807-9A7E8B9A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3BDA-6F16-492E-A24A-1BCF451F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4120-E13A-43F7-8180-1E7502FF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BCDE-22F0-4FEB-8446-B4C6C10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BE645-B10A-4785-B5F4-ABFC1978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8D87-7741-451D-97C7-642494A1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064E-16ED-4406-9B18-58ACA29E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5D05-379B-46F9-A537-CFBF515D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BE2-CCDE-49BE-94DD-2DE8CDDB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4E0-70A1-44C0-9E17-394A6C6E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9C33-E45B-43B1-B802-043ECB54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2E32-08B2-43FA-B0C5-12701B7A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C751-A170-43E8-A7B3-DF30E4F9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0D02-8DCA-4A39-A59D-54E74167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02FD-4F0B-4FF5-99B7-2F05424999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38BA-4FE6-43C0-88D6-F75C48A91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nmml.afsc.noaa.gov/SystemicManagement/fisheries/Figure_2.gif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images.google.com/imgres?imgurl=http://www.extension.umn.edu/distribution/naturalresources/images/6517f04c.gif&amp;imgrefurl=http://www.extension.umn.edu/distribution/naturalresources/DD6517.html&amp;h=108&amp;w=214&amp;sz=3&amp;hl=en&amp;start=3&amp;tbnid=o442xRIFZQHhTM:&amp;tbnh=53&amp;tbnw=106&amp;prev=/images%3Fq%3Dshelterwood%2Blogging%26svnum%3D10%26hl%3Den%26lr%3D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1295280" y="228600"/>
            <a:ext cx="64008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 13:  Forests, Parks and Landscap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nom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log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ffects of clear-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landslides likely on steep sl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mgmt may also include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cribed burning. (clear underbrus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ntation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planted after clear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forest"/>
          <p:cNvPicPr/>
          <p:nvPr/>
        </p:nvPicPr>
        <p:blipFill>
          <a:blip r:embed="rId1"/>
          <a:stretch/>
        </p:blipFill>
        <p:spPr>
          <a:xfrm>
            <a:off x="5029200" y="38862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plantation_lif"/>
          <p:cNvPicPr/>
          <p:nvPr/>
        </p:nvPicPr>
        <p:blipFill>
          <a:blip r:embed="rId2"/>
          <a:stretch/>
        </p:blipFill>
        <p:spPr>
          <a:xfrm>
            <a:off x="304920" y="3902040"/>
            <a:ext cx="39621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1676520" y="3808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ks and Prese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info. (10% land set as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 and State Park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. Forest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_____________________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l. Parks managed by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ate manages 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rst Natl. Park in US was Yellowstone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088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ks and preserves as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k vs nature reserve/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park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natl. reserve…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size and diversity of habi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 # of speci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maintaine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signing a pres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, more varied habitats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vity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7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ing 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lder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undisturbed, roadless hab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Wilderness Act of 1964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Humans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visit’, not machines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1" descr="hiking in Adams Ansel Wilderness, John Muir Trail"/>
          <p:cNvPicPr/>
          <p:nvPr/>
        </p:nvPicPr>
        <p:blipFill>
          <a:blip r:embed="rId1"/>
          <a:stretch/>
        </p:blipFill>
        <p:spPr>
          <a:xfrm>
            <a:off x="1219320" y="3048120"/>
            <a:ext cx="70149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4:  Wildlife, Fisheries and 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Managing wildlife popul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a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aximum Sustainable Yiel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Y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b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inimum Viable Population 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(endangered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c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Optimum Sustainabl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d. 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 70% global fishes considered overfis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762120" y="1828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d fish harvests are decl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shelf = 95% har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pwelling, nutrients, alga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armful commercial fishing technique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990720" y="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r every pound of shrimp caught, 10 - 20 lb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ycatch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“trawl trash” is killed and discard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8" descr="Trawling"/>
          <p:cNvPicPr/>
          <p:nvPr/>
        </p:nvPicPr>
        <p:blipFill>
          <a:blip r:embed="rId1"/>
          <a:stretch/>
        </p:blipFill>
        <p:spPr>
          <a:xfrm>
            <a:off x="838080" y="27432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4495680" y="2743200"/>
            <a:ext cx="4419720" cy="373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4952880" y="335268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area of the seafloor trawled is equal to 150X the area of forests clear cut each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 One of the most crucial environ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 of our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rect ca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ing world = maj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fu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457200" y="685800"/>
            <a:ext cx="792468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o’s being deple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rtually every large fish in the ocean: Including, but not limi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have declined by 90% since industrialized fishing after WW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sheries in total collap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y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uefin and Albacore T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d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lantic C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vies from P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on from Pacific North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laska is 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Collapse of the Newfoundland cod fish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38080" y="685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orld  Fisheries 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533520" y="1371600"/>
            <a:ext cx="8381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992 and 19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major country discusses codes of conduct/harvesting…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a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Graph representing Trend in median age-at-maturity for Atlantic cod in Lofoton,&#13;&#10;Norway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66760"/>
            <a:ext cx="8610480" cy="5243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129528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h caught are getting younger and you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les and W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hales and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istence  vs. commerc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iest losses in 20th century wi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 whaling equ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less $$ than 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a few crucial products (whale 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ed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6 set moratorium on commercial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2  (very important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 Violates B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00 have been slaughtered since the ban in 198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568760" y="3860640"/>
            <a:ext cx="6480" cy="5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nder guise of “scientific researc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s the “rats of the sea” are responsible for crash of fisheri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WC contemplating 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phins, porpois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and accidental hun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una net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peration and boycot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helped establish measur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duce bycatch mort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l. Union of Concerned Scientists (IUCC) Red List says, at risk of extinction ar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mam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rept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amphi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523880" y="228600"/>
            <a:ext cx="6019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Case Study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Paper and Defor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67616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and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We (5% or world’s pop.) use 30% of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ood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Predicted to double by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oldgrowth_logo_lg"/>
          <p:cNvPicPr/>
          <p:nvPr/>
        </p:nvPicPr>
        <p:blipFill>
          <a:blip r:embed="rId1"/>
          <a:stretch/>
        </p:blipFill>
        <p:spPr>
          <a:xfrm>
            <a:off x="6781680" y="2666880"/>
            <a:ext cx="2133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Natural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fluctuations (if pop is very 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Catastro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changes (Small po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uman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xic Pollution and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Pollut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leaching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ia_b_guetezeichen2_0_magia"/>
          <p:cNvPicPr/>
          <p:nvPr/>
        </p:nvPicPr>
        <p:blipFill>
          <a:blip r:embed="rId1"/>
          <a:stretch/>
        </p:blipFill>
        <p:spPr>
          <a:xfrm>
            <a:off x="5257800" y="4191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eventh Generation Toilet Paper"/>
          <p:cNvPicPr/>
          <p:nvPr/>
        </p:nvPicPr>
        <p:blipFill>
          <a:blip r:embed="rId2"/>
          <a:stretch/>
        </p:blipFill>
        <p:spPr>
          <a:xfrm>
            <a:off x="990720" y="34290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160" y="2286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per is the dominant material in solid was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ternatives to wood in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ena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rom East In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62120" y="2743200"/>
            <a:ext cx="815328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2860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m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irst paper 105 A.D. - Ch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at, sugar cane and other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gricultural stra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ricultural was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used for over 200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"/>
          <p:cNvSpPr/>
          <p:nvPr/>
        </p:nvSpPr>
        <p:spPr>
          <a:xfrm>
            <a:off x="762120" y="1523880"/>
            <a:ext cx="7924680" cy="327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1523880" y="0"/>
            <a:ext cx="5791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est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14400" y="1218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wo types of for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st logging is on private and U.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est  service l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f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greatest amou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good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st amount of peop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6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440" y="762120"/>
            <a:ext cx="8458200" cy="5943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F.S.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use poli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ists call this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misus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gging strate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6517f04a.gif - 1.43 K"/>
          <p:cNvPicPr/>
          <p:nvPr/>
        </p:nvPicPr>
        <p:blipFill>
          <a:blip r:embed="rId1"/>
          <a:stretch/>
        </p:blipFill>
        <p:spPr>
          <a:xfrm>
            <a:off x="5867280" y="533520"/>
            <a:ext cx="266724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6517f04b.gif - 1.55 K"/>
          <p:cNvPicPr/>
          <p:nvPr/>
        </p:nvPicPr>
        <p:blipFill>
          <a:blip r:embed="rId2"/>
          <a:stretch/>
        </p:blipFill>
        <p:spPr>
          <a:xfrm>
            <a:off x="6019920" y="2362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6517f04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800600"/>
            <a:ext cx="276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3:03:34Z</dcterms:created>
  <dc:creator>Amy Chan</dc:creator>
  <dc:description/>
  <dc:language>en-US</dc:language>
  <cp:lastModifiedBy>infosys</cp:lastModifiedBy>
  <dcterms:modified xsi:type="dcterms:W3CDTF">2015-11-30T22:52:59Z</dcterms:modified>
  <cp:revision>73</cp:revision>
  <dc:subject/>
  <dc:title>Chapter 13  Landscapes and Seascapes</dc:title>
</cp:coreProperties>
</file>